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BD9-A7EF-4E75-A953-7C56CE61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BA7-5ED7-4D41-B012-4956026D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DF3-742B-4A97-8FB7-3005C1B6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D9C-EA80-42A1-9C1D-BE91EE33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BF4-F278-4412-AFEF-2C2C3E0C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FEC-9D03-462B-8A95-7E1B3DD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E213-91C5-4E0C-84FB-FB5D50F2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E38D-DB9A-4EA7-8407-8B79303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91A-1F9D-4D82-A6DC-89A3980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9606-8799-46CD-8A6E-C314A3F3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8EE1-C717-4811-AF86-82F92265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761-483A-4A3B-9BED-3B8F659B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760-2F19-4F6C-BF96-8EB493E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9C2-6EC8-4111-A631-F0F4F60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9C2-C671-429E-AED9-0A463603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74D-8287-42DF-9B93-5BECFD9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8AAF-7F9D-4B45-953A-06B39A0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7DC-3C39-4321-8C83-DBB30A83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853-B0A5-443C-8CCA-4A6AEA81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0C7-7BE4-4293-A1B7-DDFBF55F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A95-75C1-458D-A7BD-FD56BFD8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E79-C308-4B53-ABCC-A392563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E8F-52B2-45AC-B90B-D560618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E35-41B4-4309-8699-DF2A8FB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2B497-FF3F-4C1A-A030-13CAB246F538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9CEF8-A330-4300-80F1-E51F8607D65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87C67-18C0-459C-9DB4-87C03183374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4E566-B9DC-46FA-8267-B4DE9AF3BBC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nida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3680" y="1676520"/>
            <a:ext cx="812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di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 skelet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le cells &amp; jet propul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828800"/>
            <a:ext cx="80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rve net (no brai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budd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astrovascular cavity (sac) –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              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single opening =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pulsion from GVC (gastrovascular cavity) + diffusion of wastes from individual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NHS NPS</cp:lastModifiedBy>
  <dcterms:modified xsi:type="dcterms:W3CDTF">2012-05-15T12:39:00Z</dcterms:modified>
  <cp:revision>3</cp:revision>
  <dc:subject/>
  <dc:title>Animal Phyla Chart</dc:title>
</cp:coreProperties>
</file>